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77C0-6B4D-4C04-A265-F544DA867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EE8B-BDA5-4EF7-A846-E3B0C6DE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800E-63D0-4C4F-9583-8B1F65E9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B257-C007-4139-9367-F34B83B11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353E-F0A2-4DCE-94F2-969A4C54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532B-80A2-46A1-AEA7-C7E8BD12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FA39-CB2E-493B-814D-010DE607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F6E5-6BC6-45EA-BBFE-C03C7688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9165-315F-4893-AEA7-B3B757AC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BC5E-DD7E-40FD-A3D5-C6418383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901D-7C1E-45D6-BBEA-49C25D09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AEA7-0644-4B1F-8A3F-52202B7A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46000" indent="-325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303200" indent="-2602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824120" indent="-2602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bg-BG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7008840"/>
            <a:ext cx="338760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bg-BG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7DE7442-1890-4DA8-AC73-5AA584EBA71E}" type="slidenum">
              <a:rPr b="0" lang="bg-BG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hyperlink" Target="http://www.eufunds.bg/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7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3" descr=""/>
          <p:cNvPicPr/>
          <p:nvPr/>
        </p:nvPicPr>
        <p:blipFill>
          <a:blip r:embed="rId3"/>
          <a:stretch/>
        </p:blipFill>
        <p:spPr>
          <a:xfrm>
            <a:off x="8228160" y="6164280"/>
            <a:ext cx="934920" cy="561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9371160" y="6300720"/>
            <a:ext cx="1160280" cy="42552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1760400" y="3516480"/>
            <a:ext cx="738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400" spc="-1" strike="noStrike">
                <a:solidFill>
                  <a:srgbClr val="f58220"/>
                </a:solidFill>
                <a:latin typeface="Calibri"/>
              </a:rPr>
              <a:t>ГОДИШЕН ДОКЛАД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400" spc="-1" strike="noStrike">
                <a:solidFill>
                  <a:srgbClr val="f58220"/>
                </a:solidFill>
                <a:latin typeface="Calibri"/>
              </a:rPr>
              <a:t>ЗА ИЗПЪЛНЕНИЕ НА ОПТП за 2012 г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"/>
          <p:cNvPicPr/>
          <p:nvPr/>
        </p:nvPicPr>
        <p:blipFill>
          <a:blip r:embed="rId5"/>
          <a:stretch/>
        </p:blipFill>
        <p:spPr>
          <a:xfrm>
            <a:off x="3971880" y="1508040"/>
            <a:ext cx="29592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"/>
          <p:cNvSpPr/>
          <p:nvPr/>
        </p:nvSpPr>
        <p:spPr>
          <a:xfrm>
            <a:off x="306360" y="2916360"/>
            <a:ext cx="1015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"/>
          <p:cNvSpPr/>
          <p:nvPr/>
        </p:nvSpPr>
        <p:spPr>
          <a:xfrm>
            <a:off x="2898720" y="60480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ПРЕДПРИЕТИ ДЕЙСТВИЯ ЗА ИЗВЪРШВАНЕ НА ОЦЕН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2898720" y="1376280"/>
            <a:ext cx="7416720" cy="38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1199"/>
              </a:spcAft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2011 г. стартира изпълнението от УО на проект „Извършване на средно-срочна (междинна) оценка на ОПТП (проект № 0089-УО-1.4) </a:t>
            </a: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/</a:t>
            </a: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в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 изпълнение изискванията на чл. 48 (1) от Регламент (ЕО) №1083/2006 и Плана за оценка на ОПТП</a:t>
            </a: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1199"/>
              </a:spcAft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На 08.08.2012 г. - сключен договор с ЕКОРИС САУТ ИЙСТ ЮРОП ЕООД за извършване на средно-срочна  оценка на ОПТП /вследствие на проведена процедура за избор на външен изпълнител по реда на ЗОП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1199"/>
              </a:spcAft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На 10.12.2012 г. - предаден проект на окончателен докла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1199"/>
              </a:spcAft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На 21.12.2012 г. - УО изпрати своите коментар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1199"/>
              </a:spcAft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В началото на 2013 г. окончателният доклад е одобрен от УО. Той подкрепя инициираните действия от страна на УО за промяна на програмата от месец Ноември 2012 г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306360" y="2916360"/>
            <a:ext cx="1015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"/>
          <p:cNvSpPr/>
          <p:nvPr/>
        </p:nvSpPr>
        <p:spPr>
          <a:xfrm>
            <a:off x="2898720" y="60480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ИНФОРМАЦИЯ И ПУБЛИЧНО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2422440" y="1039680"/>
            <a:ext cx="818064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Единен информационен портал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eufunds.bg</a:t>
            </a:r>
            <a:r>
              <a:rPr b="1" i="1" lang="bg-B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– създадени самостоятелни страници за всеки ОИЦ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 създадена информационна среда за обмен на информация между ОИЦ, ЦИКО и ЦИО в реално време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създадена интерактивна административна карта на България с хиперлинкове към 28-те ОИЦ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закупен самостоятелен сървър за хостване на портал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изградена система за управление на банер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създадена секция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cial Media Newsroom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нова подстраница  „Нов програмен период 2014-2020“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преводи на английската секция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актуализиране на профилите в социалните мрежи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acebook, twitter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You Tub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Информационна мрежа на централно ниво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Междуведомствена работна група на служителите по информация и публичност на оперативните програм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преведе 4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заседания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Информационна мрежа на местно ниво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27-те ОИЦ в страната, към края на 2012 г.,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10 727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сетители са потърсили информация, регистрирани са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10 001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питвания в мрежата; организирани са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919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информационни събития с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26 381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астници и са направени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5 953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убликации в медиите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Централен информационен и координационен офис (ЦИКО)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вел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8 специализирани обучения, 2 координационни срещи, 5 учебни посещения за обмяна на опит,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съответно в Брюксел, Латвия и Полш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за служителите в ОИЦ. Служители на ЦИКО са направили над 200 посещения в ОИЦ. С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рия от публични представяния на центровете по места съвместно с министъра по управление на средствата от ЕС и представители от ЕК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Европейски информационни мреж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периода 10 и 11 май 2012 г. във Варшава се проведе Деветата официална среща на членовете на мрежата ИНФОРМ на ГД „Регионална и урбанистична политика” на ЕК – участваха 4 представители от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Събития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Близо 70 събития сред които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Второ 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ложение „Европа за нас” –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юни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012 г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3 обучения на бенефициентите по ОПТП,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ционален конкурс за детска рисунка „Как искам Европейският съюз да промени моя град”, Работни посещения на министъра и представители на ЕК в ОИЦ и д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Комитет за наблюдение на ОПТП (КН на ОПТП)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есето редовно заседание на КН на ОПТП на 18.06.2012 г. и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динадесето редовно заседание на КН на ОПТП. На 27.11.2012 г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Комитет за наблюдение на НСРР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едмо заседание на 16.11.2012 г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6960" cy="242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144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3"/>
          <p:cNvSpPr/>
          <p:nvPr/>
        </p:nvSpPr>
        <p:spPr>
          <a:xfrm>
            <a:off x="144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8"/>
          <p:cNvSpPr/>
          <p:nvPr/>
        </p:nvSpPr>
        <p:spPr>
          <a:xfrm>
            <a:off x="185580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"/>
          <p:cNvSpPr/>
          <p:nvPr/>
        </p:nvSpPr>
        <p:spPr>
          <a:xfrm>
            <a:off x="3265200" y="5108400"/>
            <a:ext cx="416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400" spc="-1" strike="noStrike">
                <a:solidFill>
                  <a:srgbClr val="f58220"/>
                </a:solidFill>
                <a:latin typeface="Calibri"/>
              </a:rPr>
              <a:t>БЛАГОДАРЯ ЗА ВНИМАНИЕ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11" descr="\\Cm_ldb\optp-docs\INFORMATION&amp;PUBLICITY\00_OPTA_Visual Identity\pics\no marks\cub7.png"/>
          <p:cNvPicPr/>
          <p:nvPr/>
        </p:nvPicPr>
        <p:blipFill>
          <a:blip r:embed="rId3"/>
          <a:stretch/>
        </p:blipFill>
        <p:spPr>
          <a:xfrm>
            <a:off x="4087800" y="1116000"/>
            <a:ext cx="2521080" cy="2386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" descr=""/>
          <p:cNvPicPr/>
          <p:nvPr/>
        </p:nvPicPr>
        <p:blipFill>
          <a:blip r:embed="rId4"/>
          <a:stretch/>
        </p:blipFill>
        <p:spPr>
          <a:xfrm>
            <a:off x="4608360" y="4140360"/>
            <a:ext cx="14796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2898720" y="6048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ОБЩ НАПРЕДЪК ПО ОПТП КЪМ 3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1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.12.201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 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2682720" y="1146240"/>
            <a:ext cx="7848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Договорени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средства – 82 101 043,92 лв. </a:t>
            </a: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или </a:t>
            </a:r>
            <a:r>
              <a:rPr b="1" lang="ru-RU" sz="1800" spc="-1" strike="noStrike">
                <a:solidFill>
                  <a:srgbClr val="ffc000"/>
                </a:solidFill>
                <a:latin typeface="Calibri"/>
              </a:rPr>
              <a:t>73,88 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Реално изплатени средства – 37 812 367,62 лв. - </a:t>
            </a:r>
            <a:r>
              <a:rPr b="1" lang="ru-RU" sz="1800" spc="-1" strike="noStrike">
                <a:solidFill>
                  <a:srgbClr val="ffc000"/>
                </a:solidFill>
                <a:latin typeface="Calibri"/>
              </a:rPr>
              <a:t>34,03 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Сертифицирани средства – 25 318 629,10 лв. – </a:t>
            </a:r>
            <a:r>
              <a:rPr b="1" lang="ru-RU" sz="1800" spc="-1" strike="noStrike">
                <a:solidFill>
                  <a:srgbClr val="ffc000"/>
                </a:solidFill>
                <a:latin typeface="Calibri"/>
              </a:rPr>
              <a:t>22,78 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ffc000"/>
              </a:buClr>
              <a:buFont typeface="Calibri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pic>
        <p:nvPicPr>
          <p:cNvPr id="56" name="Chart 11" descr=""/>
          <p:cNvPicPr/>
          <p:nvPr/>
        </p:nvPicPr>
        <p:blipFill>
          <a:blip r:embed="rId4"/>
          <a:stretch/>
        </p:blipFill>
        <p:spPr>
          <a:xfrm>
            <a:off x="666720" y="2771640"/>
            <a:ext cx="4446720" cy="3673440"/>
          </a:xfrm>
          <a:prstGeom prst="rect">
            <a:avLst/>
          </a:prstGeom>
          <a:ln w="0">
            <a:noFill/>
          </a:ln>
        </p:spPr>
      </p:pic>
      <p:pic>
        <p:nvPicPr>
          <p:cNvPr id="57" name="Chart 12" descr=""/>
          <p:cNvPicPr/>
          <p:nvPr/>
        </p:nvPicPr>
        <p:blipFill>
          <a:blip r:embed="rId5"/>
          <a:stretch/>
        </p:blipFill>
        <p:spPr>
          <a:xfrm>
            <a:off x="5318280" y="2771640"/>
            <a:ext cx="4781520" cy="3673440"/>
          </a:xfrm>
          <a:prstGeom prst="rect">
            <a:avLst/>
          </a:prstGeom>
          <a:ln w="0">
            <a:noFill/>
          </a:ln>
        </p:spPr>
      </p:pic>
      <p:sp>
        <p:nvSpPr>
          <p:cNvPr id="58" name="TextBox 10"/>
          <p:cNvSpPr/>
          <p:nvPr/>
        </p:nvSpPr>
        <p:spPr>
          <a:xfrm>
            <a:off x="1921320" y="6437160"/>
            <a:ext cx="1761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Изпълнение на ОПТП в лв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6684840" y="6437160"/>
            <a:ext cx="253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Изпълнение в процентно съотноше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306360" y="2941560"/>
            <a:ext cx="1015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sp>
        <p:nvSpPr>
          <p:cNvPr id="66" name="TextBox 1"/>
          <p:cNvSpPr/>
          <p:nvPr/>
        </p:nvSpPr>
        <p:spPr>
          <a:xfrm>
            <a:off x="2898720" y="6048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ОБЩ НАПРЕДЪК ПО ОПТП КЪМ 3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1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.12.201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 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2886120" y="115416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alibri"/>
              </a:rPr>
              <a:t>ПО 1 </a:t>
            </a:r>
            <a:r>
              <a:rPr b="1" lang="bg-BG" sz="1800" spc="-1" strike="noStrike">
                <a:solidFill>
                  <a:srgbClr val="595959"/>
                </a:solidFill>
                <a:latin typeface="Calibri"/>
              </a:rPr>
              <a:t>„</a:t>
            </a:r>
            <a:r>
              <a:rPr b="1" lang="ru-RU" sz="1800" spc="-1" strike="noStrike">
                <a:solidFill>
                  <a:srgbClr val="595959"/>
                </a:solidFill>
                <a:latin typeface="Calibri"/>
              </a:rPr>
              <a:t>Подпомагане реализирането на дейностите на структурите на централно и местно ниво. Мерки за изграждане на капацитета на институциите, работещи по Структурните фондове</a:t>
            </a:r>
            <a:r>
              <a:rPr b="1" lang="bg-BG" sz="1800" spc="-1" strike="noStrike">
                <a:solidFill>
                  <a:srgbClr val="595959"/>
                </a:solidFill>
                <a:latin typeface="Calibri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1" descr=""/>
          <p:cNvPicPr/>
          <p:nvPr/>
        </p:nvPicPr>
        <p:blipFill>
          <a:blip r:embed="rId4"/>
          <a:stretch/>
        </p:blipFill>
        <p:spPr>
          <a:xfrm>
            <a:off x="162000" y="2700360"/>
            <a:ext cx="4786200" cy="39607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3"/>
          <p:cNvSpPr/>
          <p:nvPr/>
        </p:nvSpPr>
        <p:spPr>
          <a:xfrm>
            <a:off x="4986360" y="2556000"/>
            <a:ext cx="5423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Текучеството на персонала сред бенефициентите за 2012 г. </a:t>
            </a: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е</a:t>
            </a: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14,46 %., т.е е намаляло спрямо нивата от 2011 г. (16,33%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Дейности  за 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обучения, семинари, заседания, срещи за обмяна на опит и други подобни мерки за изграждане и укрепване на административния капацитет на централно ниво се изпълняваха успешно и през 2012 г. с висока степен на удоволетвореност  (над 90 %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рез 2012 г. са проведени и посетени 129 различни обучителни курсове и семинари в областта на регионалната политика на ЕС и управлението на СКФ. Обучени са 296 служители на централната администрация, участващи в процесите по управление, координация и контрол на структурните инструменти в Българ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306360" y="2916360"/>
            <a:ext cx="1015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sp>
        <p:nvSpPr>
          <p:cNvPr id="76" name="TextBox 1"/>
          <p:cNvSpPr/>
          <p:nvPr/>
        </p:nvSpPr>
        <p:spPr>
          <a:xfrm>
            <a:off x="2898720" y="6048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ОБЩ НАПРЕДЪК ПО ОПТП КЪМ 3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1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.12.201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 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2898720" y="1116000"/>
            <a:ext cx="747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alibri"/>
              </a:rPr>
              <a:t>ПО 2 </a:t>
            </a:r>
            <a:r>
              <a:rPr b="1" lang="bg-BG" sz="1800" spc="-1" strike="noStrike">
                <a:solidFill>
                  <a:srgbClr val="595959"/>
                </a:solidFill>
                <a:latin typeface="Calibri"/>
              </a:rPr>
              <a:t>“</a:t>
            </a:r>
            <a:r>
              <a:rPr b="1" lang="ru-RU" sz="1800" spc="-1" strike="noStrike">
                <a:solidFill>
                  <a:srgbClr val="595959"/>
                </a:solidFill>
                <a:latin typeface="Calibri"/>
              </a:rPr>
              <a:t>Допълнително разработване и подпомагане на функциите на ИСУН</a:t>
            </a:r>
            <a:r>
              <a:rPr b="1" lang="bg-BG" sz="1800" spc="-1" strike="noStrike">
                <a:solidFill>
                  <a:srgbClr val="595959"/>
                </a:solidFill>
                <a:latin typeface="Calibri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5108400" y="2506680"/>
            <a:ext cx="542304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рез 2012 г. по приоритетна ос две се изпълняват проектите на бенефициента ЦКЗ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„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оддържане и обновяване на информационната среда за работа на 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ИСУН”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„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Осигуряване на развитието и функционирането на ИСУН”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„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Разширяване функционалността на Информационната система за управление и наблюдение средствата от ЕС (ИСУН) чрез разработване и 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рилагане на Географска информационна система (ГИС)”</a:t>
            </a: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рез 2012 г. стартира изпълненито на проект „Създаване и поддръжка на помощна система (Help Desk) за потребителите на ИСУН“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2" descr=""/>
          <p:cNvPicPr/>
          <p:nvPr/>
        </p:nvPicPr>
        <p:blipFill>
          <a:blip r:embed="rId4"/>
          <a:stretch/>
        </p:blipFill>
        <p:spPr>
          <a:xfrm>
            <a:off x="378000" y="2556000"/>
            <a:ext cx="4608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306360" y="2916360"/>
            <a:ext cx="1015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2898720" y="6048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ОБЩ НАПРЕДЪК ПО ОПТП КЪМ 3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1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.12.201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 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2959200" y="118908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alibri"/>
              </a:rPr>
              <a:t>ПО 3 </a:t>
            </a:r>
            <a:r>
              <a:rPr b="1" lang="bg-BG" sz="1800" spc="-1" strike="noStrike">
                <a:solidFill>
                  <a:srgbClr val="595959"/>
                </a:solidFill>
                <a:latin typeface="Calibri"/>
              </a:rPr>
              <a:t>„Популяризиране на европейската кохезионна </a:t>
            </a:r>
            <a:r>
              <a:rPr b="1" lang="ru-RU" sz="1800" spc="-1" strike="noStrike">
                <a:solidFill>
                  <a:srgbClr val="595959"/>
                </a:solidFill>
                <a:latin typeface="Calibri"/>
              </a:rPr>
              <a:t>политика и нейните цели в България и осигуряване на обща и статистическа информация</a:t>
            </a:r>
            <a:r>
              <a:rPr b="1" lang="bg-BG" sz="1800" spc="-1" strike="noStrike">
                <a:solidFill>
                  <a:srgbClr val="595959"/>
                </a:solidFill>
                <a:latin typeface="Calibri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5491080" y="2771640"/>
            <a:ext cx="4905360" cy="38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1199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рез 2012 г. приключи изпълнението на проект на бенефициента ЦКЗ „Подпомагане на цялостния процес по изработване на новите програмни стратегически документи на Република България”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Bef>
                <a:spcPts val="1199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рез 2012 г. стартира изпълнението на проект на бенефициента ЦКЗ „Документален фонд на оперативните програми”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Bef>
                <a:spcPts val="1199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рез 2012 г. стартира и изпълението на проект на бенефициента ЦИО „Популяризиране на добри практики по Оперативните програми, съфинансирани от Структурните фондове и Кохезионния фонд на Европейския съюз, и подготовката на програмен период 2014-2020 г.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2" descr=""/>
          <p:cNvPicPr/>
          <p:nvPr/>
        </p:nvPicPr>
        <p:blipFill>
          <a:blip r:embed="rId4"/>
          <a:stretch/>
        </p:blipFill>
        <p:spPr>
          <a:xfrm>
            <a:off x="306360" y="2629080"/>
            <a:ext cx="5184720" cy="40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306360" y="2916360"/>
            <a:ext cx="1015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sp>
        <p:nvSpPr>
          <p:cNvPr id="96" name="TextBox 1"/>
          <p:cNvSpPr/>
          <p:nvPr/>
        </p:nvSpPr>
        <p:spPr>
          <a:xfrm>
            <a:off x="2898720" y="60480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ИДЕНТИФИЦИРАНИ СЪЩЕСТВЕНИ ПРОБЛЕМ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И ПРЕДПРИЕТИ МЕРКИ ЗА РЕШАВАНЕТО И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ounded Rectangle 9"/>
          <p:cNvSpPr/>
          <p:nvPr/>
        </p:nvSpPr>
        <p:spPr>
          <a:xfrm>
            <a:off x="306360" y="2629080"/>
            <a:ext cx="2136960" cy="12236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Организиране и провеждане на обществените поръч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ounded Rectangle 12"/>
          <p:cNvSpPr/>
          <p:nvPr/>
        </p:nvSpPr>
        <p:spPr>
          <a:xfrm>
            <a:off x="306360" y="3997440"/>
            <a:ext cx="2133720" cy="14698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Повтарящи се пропуски по отношение на отчитането на разходи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ounded Rectangle 13"/>
          <p:cNvSpPr/>
          <p:nvPr/>
        </p:nvSpPr>
        <p:spPr>
          <a:xfrm>
            <a:off x="306360" y="5629320"/>
            <a:ext cx="2131920" cy="11034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енавременно изпълнение на дейностите по проекти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ounded Rectangle 15"/>
          <p:cNvSpPr/>
          <p:nvPr/>
        </p:nvSpPr>
        <p:spPr>
          <a:xfrm>
            <a:off x="3402000" y="1332000"/>
            <a:ext cx="712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Ускорен процес на предварителен контрол на документациит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по обществени поръчки по проекти на ОПТП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ounded Rectangle 16"/>
          <p:cNvSpPr/>
          <p:nvPr/>
        </p:nvSpPr>
        <p:spPr>
          <a:xfrm>
            <a:off x="3402000" y="2079720"/>
            <a:ext cx="7129440" cy="836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Регулярни срещи с бенефициенти, за обсъждане н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проблеми при изпълнение на проектите 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възможности за тяхното разрешаван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ounded Rectangle 17"/>
          <p:cNvSpPr/>
          <p:nvPr/>
        </p:nvSpPr>
        <p:spPr>
          <a:xfrm>
            <a:off x="3402000" y="3060720"/>
            <a:ext cx="7129440" cy="63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Извършени модификации по конкретни проект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с цел оптимизиране на дейностит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ounded Rectangle 18"/>
          <p:cNvSpPr/>
          <p:nvPr/>
        </p:nvSpPr>
        <p:spPr>
          <a:xfrm>
            <a:off x="3402000" y="3852720"/>
            <a:ext cx="7129440" cy="528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Ускорен процесът на верификация на разходите в УО на ОПТП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ounded Rectangle 19"/>
          <p:cNvSpPr/>
          <p:nvPr/>
        </p:nvSpPr>
        <p:spPr>
          <a:xfrm>
            <a:off x="3402000" y="4500720"/>
            <a:ext cx="7129440" cy="99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УО на ОПТП изготвя регулярно искания за средства към НФ с оглед ускоряване процеса на възстановяване на средствата към бенефициентит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ounded Rectangle 20"/>
          <p:cNvSpPr/>
          <p:nvPr/>
        </p:nvSpPr>
        <p:spPr>
          <a:xfrm>
            <a:off x="3402000" y="5580000"/>
            <a:ext cx="712944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595959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УО на ОПТП идентифицира нов кръг от бенефициен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595959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инициира прехвърляне на средства между ПО на програмат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595959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По този начин осигурява необходимия финансов ресурс за новите бенефициенти и договаряне на целия ресурс по ОПТ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Straight Arrow Connector 66"/>
          <p:cNvCxnSpPr>
            <a:endCxn id="100" idx="1"/>
          </p:cNvCxnSpPr>
          <p:nvPr/>
        </p:nvCxnSpPr>
        <p:spPr>
          <a:xfrm flipV="1">
            <a:off x="2445840" y="1654920"/>
            <a:ext cx="956520" cy="1724760"/>
          </a:xfrm>
          <a:prstGeom prst="straightConnector1">
            <a:avLst/>
          </a:prstGeom>
          <a:ln w="1908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107" name="Straight Arrow Connector 68"/>
          <p:cNvCxnSpPr>
            <a:stCxn id="99" idx="3"/>
            <a:endCxn id="103" idx="1"/>
          </p:cNvCxnSpPr>
          <p:nvPr/>
        </p:nvCxnSpPr>
        <p:spPr>
          <a:xfrm flipV="1">
            <a:off x="2437920" y="4115520"/>
            <a:ext cx="964440" cy="2066040"/>
          </a:xfrm>
          <a:prstGeom prst="straightConnector1">
            <a:avLst/>
          </a:prstGeom>
          <a:ln w="1908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08" name="Straight Arrow Connector 71"/>
          <p:cNvCxnSpPr>
            <a:endCxn id="101" idx="1"/>
          </p:cNvCxnSpPr>
          <p:nvPr/>
        </p:nvCxnSpPr>
        <p:spPr>
          <a:xfrm flipV="1">
            <a:off x="2461680" y="2496600"/>
            <a:ext cx="940680" cy="2207520"/>
          </a:xfrm>
          <a:prstGeom prst="straightConnector1">
            <a:avLst/>
          </a:prstGeom>
          <a:ln w="19080">
            <a:solidFill>
              <a:srgbClr val="4bacc6"/>
            </a:solidFill>
            <a:miter/>
            <a:tailEnd len="med" type="arrow" w="med"/>
          </a:ln>
        </p:spPr>
      </p:cxnSp>
      <p:cxnSp>
        <p:nvCxnSpPr>
          <p:cNvPr id="109" name="Straight Arrow Connector 72"/>
          <p:cNvCxnSpPr>
            <a:stCxn id="99" idx="3"/>
            <a:endCxn id="102" idx="1"/>
          </p:cNvCxnSpPr>
          <p:nvPr/>
        </p:nvCxnSpPr>
        <p:spPr>
          <a:xfrm flipV="1">
            <a:off x="2437920" y="3378960"/>
            <a:ext cx="964440" cy="2802600"/>
          </a:xfrm>
          <a:prstGeom prst="straightConnector1">
            <a:avLst/>
          </a:prstGeom>
          <a:ln w="1908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10" name="Straight Arrow Connector 68"/>
          <p:cNvCxnSpPr>
            <a:stCxn id="99" idx="3"/>
          </p:cNvCxnSpPr>
          <p:nvPr/>
        </p:nvCxnSpPr>
        <p:spPr>
          <a:xfrm flipV="1">
            <a:off x="2438280" y="2496240"/>
            <a:ext cx="936000" cy="3685320"/>
          </a:xfrm>
          <a:prstGeom prst="straightConnector1">
            <a:avLst/>
          </a:prstGeom>
          <a:ln w="1908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11" name="Straight Arrow Connector 68"/>
          <p:cNvCxnSpPr>
            <a:stCxn id="99" idx="3"/>
          </p:cNvCxnSpPr>
          <p:nvPr/>
        </p:nvCxnSpPr>
        <p:spPr>
          <a:xfrm flipV="1">
            <a:off x="2438280" y="5029920"/>
            <a:ext cx="936000" cy="1151640"/>
          </a:xfrm>
          <a:prstGeom prst="straightConnector1">
            <a:avLst/>
          </a:prstGeom>
          <a:ln w="1908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12" name="Straight Arrow Connector 68"/>
          <p:cNvCxnSpPr>
            <a:stCxn id="99" idx="3"/>
            <a:endCxn id="105" idx="1"/>
          </p:cNvCxnSpPr>
          <p:nvPr/>
        </p:nvCxnSpPr>
        <p:spPr>
          <a:xfrm flipV="1">
            <a:off x="2437920" y="6156000"/>
            <a:ext cx="964440" cy="25920"/>
          </a:xfrm>
          <a:prstGeom prst="straightConnector1">
            <a:avLst/>
          </a:prstGeom>
          <a:ln w="1908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13" name="Straight Arrow Connector 71"/>
          <p:cNvCxnSpPr>
            <a:endCxn id="103" idx="1"/>
          </p:cNvCxnSpPr>
          <p:nvPr/>
        </p:nvCxnSpPr>
        <p:spPr>
          <a:xfrm flipV="1">
            <a:off x="2422080" y="4117320"/>
            <a:ext cx="980280" cy="587880"/>
          </a:xfrm>
          <a:prstGeom prst="straightConnector1">
            <a:avLst/>
          </a:prstGeom>
          <a:ln w="19080">
            <a:solidFill>
              <a:srgbClr val="4bacc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1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2052720" y="7121520"/>
            <a:ext cx="69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1"/>
          <p:cNvSpPr/>
          <p:nvPr/>
        </p:nvSpPr>
        <p:spPr>
          <a:xfrm>
            <a:off x="593640" y="2151000"/>
            <a:ext cx="979488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ffc000"/>
                </a:solidFill>
                <a:latin typeface="Calibri"/>
              </a:rPr>
              <a:t>ОДИТИ НА СИСТЕМИТЕ </a:t>
            </a:r>
            <a:r>
              <a:rPr b="0" lang="bg-BG" sz="1600" spc="-1" strike="noStrike">
                <a:solidFill>
                  <a:srgbClr val="7f7f7f"/>
                </a:solidFill>
                <a:latin typeface="Calibri"/>
              </a:rPr>
              <a:t>- извършен от ИА ”ОСЕС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bg-BG" sz="1600" spc="-1" strike="noStrike">
                <a:solidFill>
                  <a:srgbClr val="7f7f7f"/>
                </a:solidFill>
                <a:latin typeface="Calibri"/>
              </a:rPr>
              <a:t>Трети системен одит </a:t>
            </a:r>
            <a:r>
              <a:rPr b="0" lang="bg-BG" sz="1600" spc="-1" strike="noStrike">
                <a:solidFill>
                  <a:srgbClr val="7f7f7f"/>
                </a:solidFill>
                <a:latin typeface="Calibri"/>
              </a:rPr>
              <a:t>по ОПТП за оценка на Ключово изискване 7 </a:t>
            </a:r>
            <a:r>
              <a:rPr b="0" i="1" lang="bg-BG" sz="1600" spc="-1" strike="noStrike">
                <a:solidFill>
                  <a:srgbClr val="7f7f7f"/>
                </a:solidFill>
                <a:latin typeface="Calibri"/>
              </a:rPr>
              <a:t>„Предприемане на превантивни и коригиращи действия в случай на установени при изпълнени одити системни грешки”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7f7f7f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600" spc="-1" strike="noStrike">
                <a:solidFill>
                  <a:srgbClr val="7f7f7f"/>
                </a:solidFill>
                <a:latin typeface="Calibri"/>
              </a:rPr>
              <a:t>Оценката по целите на одитния ангажимент е 2 </a:t>
            </a:r>
            <a:r>
              <a:rPr b="0" i="1" lang="bg-BG" sz="1600" spc="-1" strike="noStrike">
                <a:solidFill>
                  <a:srgbClr val="7f7f7f"/>
                </a:solidFill>
                <a:latin typeface="Calibri"/>
              </a:rPr>
              <a:t>„Работи, но са необходими някои подобрения”</a:t>
            </a:r>
            <a:r>
              <a:rPr b="0" lang="bg-BG" sz="1600" spc="-1" strike="noStrike">
                <a:solidFill>
                  <a:srgbClr val="7f7f7f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7f7f7f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"/>
              </a:rPr>
              <a:t>3 констатации и препоръки по тях, от които една със средно и две с ниско ниво на значимост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bg-BG" sz="1600" spc="-1" strike="noStrike">
                <a:solidFill>
                  <a:srgbClr val="7f7f7f"/>
                </a:solidFill>
                <a:latin typeface="Calibri"/>
              </a:rPr>
              <a:t>Четвъртият системен одит </a:t>
            </a:r>
            <a:r>
              <a:rPr b="0" lang="bg-BG" sz="1600" spc="-1" strike="noStrike">
                <a:solidFill>
                  <a:srgbClr val="7f7f7f"/>
                </a:solidFill>
                <a:latin typeface="Calibri"/>
              </a:rPr>
              <a:t>е извършен в периода септември 2012 – януари 2013 г, като докладите (предварителен и окончателен) са изготвени и предоставени на УО на ОПТП през 2013 г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3186000" y="684360"/>
            <a:ext cx="70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ОДИТИ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И ПРОВЕРКИ НА МЯСТ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12" descr=""/>
          <p:cNvPicPr/>
          <p:nvPr/>
        </p:nvPicPr>
        <p:blipFill>
          <a:blip r:embed="rId2"/>
          <a:stretch/>
        </p:blipFill>
        <p:spPr>
          <a:xfrm>
            <a:off x="500040" y="255600"/>
            <a:ext cx="2352600" cy="2494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3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"/>
          <p:cNvSpPr/>
          <p:nvPr/>
        </p:nvSpPr>
        <p:spPr>
          <a:xfrm>
            <a:off x="593640" y="4529160"/>
            <a:ext cx="97218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cccc00"/>
                </a:solidFill>
                <a:latin typeface="Calibri"/>
              </a:rPr>
              <a:t>ОДИТ НА ОПЕРАЦИИТЕ </a:t>
            </a:r>
            <a:r>
              <a:rPr b="0" lang="ru-RU" sz="1600" spc="-1" strike="noStrike">
                <a:solidFill>
                  <a:srgbClr val="7f7f7f"/>
                </a:solidFill>
                <a:latin typeface="Calibri"/>
              </a:rPr>
              <a:t>- извършен от ИА ”ОСЕ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bg-BG" sz="1600" spc="-1" strike="noStrike">
                <a:solidFill>
                  <a:srgbClr val="7f7f7f"/>
                </a:solidFill>
                <a:latin typeface="Calibri"/>
              </a:rPr>
              <a:t>Третият одит на операциите </a:t>
            </a:r>
            <a:r>
              <a:rPr b="0" lang="bg-BG" sz="1600" spc="-1" strike="noStrike">
                <a:solidFill>
                  <a:srgbClr val="7f7f7f"/>
                </a:solidFill>
                <a:latin typeface="Calibri"/>
              </a:rPr>
              <a:t>за увереност че разходите, декларирани пред ЕК /1.01.2011 – 31.12.2011/ са верни и транзакциите са законосъобразни и редовн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15"/>
          <p:cNvSpPr/>
          <p:nvPr/>
        </p:nvSpPr>
        <p:spPr>
          <a:xfrm>
            <a:off x="593640" y="5543640"/>
            <a:ext cx="97948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Calibri"/>
              </a:rPr>
              <a:t>ПРОВЕРКИ НА МЯСТО НА СЕРТИФИЦИРАЩИЯ ОРГА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600" spc="-1" strike="noStrike">
                <a:solidFill>
                  <a:srgbClr val="7f7f7f"/>
                </a:solidFill>
                <a:latin typeface="Calibri"/>
              </a:rPr>
              <a:t>Проверки на място на Сертифициращия орган по верифицираните разходи от УО през 2012 г. – констатирани пропуски по прилагането на ЗОП и такива от организационен характер. Наложени финансови корекции и утвърдени изменения в Процедурния наръчник на ОПТП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306360" y="2916360"/>
            <a:ext cx="1015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"/>
          <p:cNvSpPr/>
          <p:nvPr/>
        </p:nvSpPr>
        <p:spPr>
          <a:xfrm>
            <a:off x="2898720" y="60480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ИЗМЕНЕНИЕ В КОНТЕКСТА/СЪЩНОСТТ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НА ИЗПЪЛНЕНИЕТО НА ОПЕРАТИВНАТА ПРОГРАМ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2898720" y="1663560"/>
            <a:ext cx="7561440" cy="48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cccc00"/>
                </a:solidFill>
                <a:latin typeface="Calibri"/>
                <a:ea typeface="Arial"/>
              </a:rPr>
              <a:t>О</a:t>
            </a:r>
            <a:r>
              <a:rPr b="1" lang="ru-RU" sz="1600" spc="-1" strike="noStrike">
                <a:solidFill>
                  <a:srgbClr val="cccc00"/>
                </a:solidFill>
                <a:latin typeface="Calibri"/>
                <a:ea typeface="Arial"/>
              </a:rPr>
              <a:t>ДОБРЕНО ПРЕДЛОЖЕНИЕ ЗА ИЗМЕНЕНИЕ НА </a:t>
            </a:r>
            <a:r>
              <a:rPr b="1" lang="bg-BG" sz="1600" spc="-1" strike="noStrike">
                <a:solidFill>
                  <a:srgbClr val="cccc00"/>
                </a:solidFill>
                <a:latin typeface="Calibri"/>
                <a:ea typeface="Arial"/>
              </a:rPr>
              <a:t>ОПТП /</a:t>
            </a:r>
            <a:r>
              <a:rPr b="1" lang="ru-RU" sz="1600" spc="-1" strike="noStrike">
                <a:solidFill>
                  <a:srgbClr val="cccc00"/>
                </a:solidFill>
                <a:latin typeface="Calibri"/>
                <a:ea typeface="Arial"/>
              </a:rPr>
              <a:t>ЕДИНАДЕСЕТО РЕДОВНО ЗАСЕДАНИЕ НА КН НА ОПТП - 27.11.2012 г.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600" spc="-1" strike="noStrike">
                <a:solidFill>
                  <a:srgbClr val="595959"/>
                </a:solidFill>
                <a:latin typeface="Calibri"/>
                <a:ea typeface="Arial"/>
              </a:rPr>
              <a:t>1</a:t>
            </a:r>
            <a:r>
              <a:rPr b="1" i="1" lang="bg-BG" sz="1600" spc="-1" strike="noStrike">
                <a:solidFill>
                  <a:srgbClr val="595959"/>
                </a:solidFill>
                <a:latin typeface="Calibri"/>
                <a:ea typeface="Arial"/>
              </a:rPr>
              <a:t>. Прехвърляне на средства между осите на ОПТП, </a:t>
            </a:r>
            <a:r>
              <a:rPr b="1" i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с цел осигуряване на финансов ресурс за изпълнението на проектите по ПО 1</a:t>
            </a:r>
            <a:r>
              <a:rPr b="1" i="1" lang="en-US" sz="1600" spc="-1" strike="noStrike">
                <a:solidFill>
                  <a:srgbClr val="595959"/>
                </a:solidFill>
                <a:latin typeface="Calibri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595959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 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Прехвърляне на средства в размер на 7 151 887,77 лв. от ПО 2 в ПО 1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595959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 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Прехвърляне на средства в размер на 1 885 704,45 лв. от ПО 3 в ПО 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2. Определяне на допълнителни конкретни бенефициенти по ПО 1 и създадаване на нови мерки на подкрепа 10 и 11 за тях</a:t>
            </a:r>
            <a:r>
              <a:rPr b="1" i="1" lang="en-US" sz="1600" spc="-1" strike="noStrike">
                <a:solidFill>
                  <a:srgbClr val="595959"/>
                </a:solidFill>
                <a:latin typeface="Calibri"/>
                <a:ea typeface="Arial"/>
              </a:rPr>
              <a:t>:</a:t>
            </a:r>
            <a:r>
              <a:rPr b="1" i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595959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alibri"/>
                <a:ea typeface="Arial"/>
              </a:rPr>
              <a:t> 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Националното сдружение на общините в Република България</a:t>
            </a:r>
            <a:r>
              <a:rPr b="1" lang="en-US" sz="1600" spc="-1" strike="noStrike">
                <a:solidFill>
                  <a:srgbClr val="595959"/>
                </a:solidFill>
                <a:latin typeface="Calibri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595959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595959"/>
                </a:solidFill>
                <a:latin typeface="Calibri"/>
                <a:ea typeface="Arial"/>
              </a:rPr>
              <a:t>Д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ирекция „Финанси на реалния сектор” в Министерството на финансите</a:t>
            </a:r>
            <a:r>
              <a:rPr b="1" lang="en-US" sz="1600" spc="-1" strike="noStrike">
                <a:solidFill>
                  <a:srgbClr val="595959"/>
                </a:solidFill>
                <a:latin typeface="Calibri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В програмния документ са отразени необходимите промен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Искането за изменение на ОПТП е изпратено на 13.02.2013 г. до Европейската комисия чрез системата SFC 2007. Очаква се одобрението от страна на Е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"/>
          <p:cNvSpPr/>
          <p:nvPr/>
        </p:nvSpPr>
        <p:spPr>
          <a:xfrm>
            <a:off x="306360" y="2916360"/>
            <a:ext cx="1015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"/>
          <p:cNvSpPr/>
          <p:nvPr/>
        </p:nvSpPr>
        <p:spPr>
          <a:xfrm>
            <a:off x="2898720" y="60480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ПРЕДПРИЕТИ ДЕЙСТВИЯ ЗА ИЗВЪРШВАНЕ НА МОНИТОРИН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2825640" y="1312920"/>
            <a:ext cx="7634520" cy="51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800" spc="-1" strike="noStrike">
                <a:solidFill>
                  <a:srgbClr val="595959"/>
                </a:solidFill>
                <a:latin typeface="Calibri"/>
              </a:rPr>
              <a:t>УО на ОПТП осъществява мониторинг на изпълнението на проектите на базата на регулярно докладване за напредъка от страна на бенефициентите на всяко календарно тримесеч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Наличие на значителни закъснения и неспособност за реализация на проектите в предвидените срокове</a:t>
            </a: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Проверката на напредъка по проектите е да се установят своевременно потенциални или възникнали рискове и проблеми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Извършени 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37 проверки „на </a:t>
            </a: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място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", при които не са констатирани нередност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И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звършени общо 16 проверки „на място” при бенефициенти общини, 12 от които са извършени след приключване на строително монтажните работи в областните информационни центров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Информацията, събрана и проверена от УО на проектно ниво се въвежда в ИСУН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Използваната система LOTHAR дава възможност за своевременно предприемане на корективни мерки при проблеми в изпълнениет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Наблюдението на ОПТП се осъществява оперативно в партньорство със Съвета за координация при управлението на средствата от ЕС и с членовете на КН на ОПТП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14:56:03Z</dcterms:created>
  <dc:creator>Емилия Герджикова</dc:creator>
  <dc:description/>
  <dc:language>en-US</dc:language>
  <cp:lastModifiedBy>Емилия Герджикова</cp:lastModifiedBy>
  <dcterms:modified xsi:type="dcterms:W3CDTF">2013-05-10T14:06:22Z</dcterms:modified>
  <cp:revision>171</cp:revision>
  <dc:subject/>
  <dc:title>PowerPoint Presentation</dc:title>
</cp:coreProperties>
</file>